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9.wmf" ContentType="image/x-wmf"/>
  <Override PartName="/ppt/media/image30.wmf" ContentType="image/x-wmf"/>
  <Override PartName="/ppt/media/image27.jpeg" ContentType="image/jpeg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3.gif" ContentType="image/gif"/>
  <Override PartName="/ppt/media/image14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.gif" ContentType="image/gif"/>
  <Override PartName="/ppt/media/image1.jpeg" ContentType="image/jpeg"/>
  <Override PartName="/ppt/media/image15.wmf" ContentType="image/x-wmf"/>
  <Override PartName="/ppt/media/image16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508-CF99-4526-9453-0D0BC6EF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A88-3099-4193-A169-64AFF838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F6F-D3F6-4EE1-9442-6C3A4615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9E1-FBC0-4E12-8444-A1DB5050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A6F3-DA04-430B-9968-3783A478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F967-F560-4DF7-838D-499D291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1023-6239-45B4-BE0F-67CF3E1B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197A-DA04-42AA-A201-4FF60CA0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8820-22F8-4563-BC7C-479F2D7A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0A91-F3C0-4311-AE84-8B2E3CF3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2628-AD81-46AD-8B4C-4280742D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089-2EEC-4332-98CD-6D901892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74B2-3FE1-4766-BAA1-8FC4265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6D09-C5E8-4A33-9DFB-3A5E652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C55-065B-4E7C-93FC-C924D264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C52A-C650-4D34-948E-FE03184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331E-E3E1-454A-9874-3BB2AAB8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5E7-3678-4E31-A3C5-884CFA94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615-B50D-41F3-889C-FC547C0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EBA-88B3-4DFF-83AC-A373DEF3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F62-4149-4286-ACB3-20CAE282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D64-3A62-4EDB-BBCA-1CF22E8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EE1-3245-4259-A125-929ADF6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D89-2A4C-4709-874D-A03CCED9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D8A-65E2-467C-81D1-B3F7E6F16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4889-8532-4380-B38A-73E1336BF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larviews.com/cap/meteor/iron.htm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loring Space with an 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and 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5880" y="17524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182412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848720" y="9907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315200" y="5105520"/>
            <a:ext cx="679320" cy="90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2666880" y="2514600"/>
            <a:ext cx="3062520" cy="3468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86868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490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b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 of something like a spacecraft or planet around something in space, such as Earth or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25900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705720" y="3124080"/>
            <a:ext cx="1819080" cy="180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1828800" cy="182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60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ver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Earth, the sun, the moon, and all the other planets and star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267440" cy="320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707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ourn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ng t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4671720" cy="3467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248520" y="457200"/>
            <a:ext cx="2233440" cy="215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unc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omething started or 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1903320" cy="187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77120" y="388620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1790640" cy="174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27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71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213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eo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ece of stone from space that hits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819520"/>
            <a:ext cx="2924280" cy="2027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177336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182088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545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na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u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trona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who has been trained to fly a spac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357280" cy="2324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2438280" cy="221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utt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acecraft with wings, which can orbit the Earth, land like an airplane, and be used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1322280" cy="182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657600" y="2971800"/>
            <a:ext cx="1774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st to find out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452760" cy="344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1881360" cy="341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lesco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you look through to make things far away seem nearer and 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827360" cy="1400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2863800" cy="2684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62520" y="3429000"/>
            <a:ext cx="1819080" cy="181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force that causes objects to move toward the center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c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43800" y="762120"/>
            <a:ext cx="573120" cy="90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9480" y="358128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5029200"/>
            <a:ext cx="674640" cy="94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943600" y="3048120"/>
            <a:ext cx="2992320" cy="346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8381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490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2:56:40Z</dcterms:created>
  <dc:creator> </dc:creator>
  <dc:description/>
  <dc:language>en-US</dc:language>
  <cp:lastModifiedBy>dyera</cp:lastModifiedBy>
  <dcterms:modified xsi:type="dcterms:W3CDTF">2007-09-05T16:39:35Z</dcterms:modified>
  <cp:revision>4</cp:revision>
  <dc:subject/>
  <dc:title>Exploring Space with an Astronaut</dc:title>
</cp:coreProperties>
</file>